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1.wmf" ContentType="image/x-wmf"/>
  <Override PartName="/ppt/media/image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6.png" ContentType="image/png"/>
  <Override PartName="/ppt/media/image7.jpeg" ContentType="image/jpeg"/>
  <Override PartName="/ppt/media/image18.png" ContentType="image/png"/>
  <Override PartName="/ppt/media/image10.wmf" ContentType="image/x-wmf"/>
  <Override PartName="/ppt/media/image2.png" ContentType="image/png"/>
  <Override PartName="/ppt/media/image13.wmf" ContentType="image/x-wmf"/>
  <Override PartName="/ppt/media/image8.jpeg" ContentType="image/jpeg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766922-90D8-4B0C-A81C-8B75FA551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AB14982-5BB2-41FE-8C83-3ABFDFA3B61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C4EB79-6730-48DD-8485-E1852A92F90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BB72-4277-49CD-8DD2-97C520559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3B57-74B6-49A7-AA07-736975D5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AE1E-2D44-44FC-9FCF-19C03014F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08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124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08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124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6C6D-AE3A-456C-892E-D44685D8D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9AC19-8E96-4FD6-BBCE-3362617EC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DF88-22E8-46CE-8617-71F53ABC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E18A-0252-4887-B510-F192D1D7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BFDBC-3338-4680-B8B9-455266A7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9659-59A7-4ED8-A8B6-69D0167F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E98D-6CCE-4083-A672-1A5E650D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1F79E-2F6B-4FCC-BB08-8A1651EB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7AA1-06B3-47CE-8421-04B95984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1F651-5F06-4902-B164-FC46CBD7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3350-690C-4A5C-AC6B-FE29129E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10BF-457A-4DD6-AFA3-B998425C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74F4-FB3D-49DC-8730-CECCC9772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08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124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08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124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9C8D-C53E-4126-B6B8-8BDB02719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9CF0-E7FA-4F03-AD93-2F597ECF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E5F4-D564-404F-A64F-B211C81B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0F89-2474-4E21-B15E-9D86F46F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16E7-57E6-47EE-99B9-0CAFFA16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97AD-B1E0-4EB7-9024-A9388424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44C3-F351-4357-8B03-DE4E086C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6BB9-407D-4B36-B257-7E7893B1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F0460D1-EDB3-4EFF-A3DF-A03D5EBB74B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9732F21-993A-4B48-8436-2241EE472CA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White-Box Cryptography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143000" y="3602160"/>
            <a:ext cx="6857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White-Box Attack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mat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alyze binary c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图片 3" descr=""/>
          <p:cNvPicPr/>
          <p:nvPr/>
        </p:nvPicPr>
        <p:blipFill>
          <a:blip r:embed="rId1"/>
          <a:stretch/>
        </p:blipFill>
        <p:spPr>
          <a:xfrm>
            <a:off x="1935000" y="2673720"/>
            <a:ext cx="5274000" cy="350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White-Box Attack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de Boot Att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icable to Bitlocker, TrueCrypt, FileVaul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ueCrypt boot loa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ssword entered at boot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k encryption key needs to be stored in mem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tack: exploit data remanency property of DRAM, cooling increase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oved &amp; inserted into another hacked machine to read data, such as crypto k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图片 3" descr=""/>
          <p:cNvPicPr/>
          <p:nvPr/>
        </p:nvPicPr>
        <p:blipFill>
          <a:blip r:embed="rId1"/>
          <a:stretch/>
        </p:blipFill>
        <p:spPr>
          <a:xfrm>
            <a:off x="1935000" y="5162400"/>
            <a:ext cx="527400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fbfbf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te-Box Cryptograph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fbfbf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White-Box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fbfbf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White-Box In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fbfbf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Obj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de a cryptography key in a white-box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A Naiv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 a cipher as one big lookup 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more information ‘leaks’ from the set of {(plaintext, ciphertext)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okup Table size: For n-bit block cipher, size would be n*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2 bit: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*32 bit =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37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it=4 GBy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ing a network of lookup table inst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文本框 4"/>
          <p:cNvSpPr/>
          <p:nvPr/>
        </p:nvSpPr>
        <p:spPr>
          <a:xfrm>
            <a:off x="1338840" y="2338200"/>
            <a:ext cx="6465960" cy="106308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oid encrypt (uint32_t* plaintext, uint32_t* ciphertex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har S[] = { 0x9e37b8e9, 0xaf48c9fa, 0x8d26a7d8, … }; /* Sbox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iphertext = S[plaintext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What is White-Box Cryptograp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w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m): need ONE in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m): need TWO in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sentially, 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w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m) is the exclusive edition of 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m) with specific cipher ke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图片 3" descr="C:\Users\cxun\Desktop\1382431114012870.jpg"/>
          <p:cNvPicPr/>
          <p:nvPr/>
        </p:nvPicPr>
        <p:blipFill>
          <a:blip r:embed="rId1"/>
          <a:stretch/>
        </p:blipFill>
        <p:spPr>
          <a:xfrm>
            <a:off x="974160" y="2305440"/>
            <a:ext cx="719568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What is White-Box Cryptograp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 Id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bed both the fixed key &amp; random data in a composi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rd to derive the original ke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acker knows which crypto algorith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acker knows where in the mem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acker knows where in the appl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What is White-Box Cryptograp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e of 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fortunately, there is no white-box cryptography proved to be sec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rrent best method: hide keys according to characteristics of the specific crypto algorith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ly white-box DES &amp; AES publish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oth have been brok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academic paper on asymmetric primi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What is White-Box Cryptograp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e of 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est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ter some company buying white-box crypto solutions, they mix their own crypto, which is not recommended in crypto applic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white-box crypto, this is reason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urity of white-box crypto depends on how hard the cipher key is hidden, not the cipher primitiv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fbfbf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fbfbf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White-Box Cryptograph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te-Box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fbfbf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White-Box In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fbfbf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fbfbf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White-Box Cryptograph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fbfbf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White-Box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fbfbf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White-Box In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fbfbf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First White-Box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w et al. 2002.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 White-Box DES Implementation for DRM App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w et al. 2002.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hite-Box Cryptography and an AES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87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Original 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5471280"/>
            <a:ext cx="7886520" cy="12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19600" indent="-219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ic operations: Replacing, Changing places, X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600" indent="-219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w, et al.: Transform to randomized networked lookup tables closely related to the crypto k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图片 3" descr="C:\Users\cxun\Desktop\DES.JPG"/>
          <p:cNvPicPr/>
          <p:nvPr/>
        </p:nvPicPr>
        <p:blipFill>
          <a:blip r:embed="rId1"/>
          <a:stretch/>
        </p:blipFill>
        <p:spPr>
          <a:xfrm>
            <a:off x="1524240" y="750960"/>
            <a:ext cx="60948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White-Box 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form a cipher into a series of key-dependent lookup tab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ret key is hard-code into the lookup 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tected by randomization techniq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图片 3" descr=""/>
          <p:cNvPicPr/>
          <p:nvPr/>
        </p:nvPicPr>
        <p:blipFill>
          <a:blip r:embed="rId1"/>
          <a:stretch/>
        </p:blipFill>
        <p:spPr>
          <a:xfrm>
            <a:off x="1403640" y="3621960"/>
            <a:ext cx="6336000" cy="32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Lookup Table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okup Tables: define every input &amp; outp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y finite function can transform to a lookup 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ble A: Replacing Ope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ble B: XOR Ope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ble C: Negative Ope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" name="对象 4"/>
          <p:cNvGraphicFramePr/>
          <p:nvPr/>
        </p:nvGraphicFramePr>
        <p:xfrm>
          <a:off x="954720" y="2833200"/>
          <a:ext cx="1788120" cy="1824840"/>
        </p:xfrm>
        <a:graphic>
          <a:graphicData uri="http://schemas.openxmlformats.org/presentationml/2006/ole">
            <p:oleObj progId="Visio.Drawing.15" r:id="rId1" spid="">
              <p:embed/>
              <p:pic>
                <p:nvPicPr>
                  <p:cNvPr id="145" name="对象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720" y="2833200"/>
                    <a:ext cx="1788120" cy="182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对象 6"/>
          <p:cNvGraphicFramePr/>
          <p:nvPr/>
        </p:nvGraphicFramePr>
        <p:xfrm>
          <a:off x="3226320" y="2844000"/>
          <a:ext cx="1777680" cy="1814400"/>
        </p:xfrm>
        <a:graphic>
          <a:graphicData uri="http://schemas.openxmlformats.org/presentationml/2006/ole">
            <p:oleObj progId="Visio.Drawing.15" r:id="rId3" spid="">
              <p:embed/>
              <p:pic>
                <p:nvPicPr>
                  <p:cNvPr id="147" name="对象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26320" y="2844000"/>
                    <a:ext cx="1777680" cy="18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对象 8"/>
          <p:cNvGraphicFramePr/>
          <p:nvPr/>
        </p:nvGraphicFramePr>
        <p:xfrm>
          <a:off x="5487480" y="2844000"/>
          <a:ext cx="1781640" cy="1377720"/>
        </p:xfrm>
        <a:graphic>
          <a:graphicData uri="http://schemas.openxmlformats.org/presentationml/2006/ole">
            <p:oleObj progId="Visio.Drawing.15" r:id="rId5" spid="">
              <p:embed/>
              <p:pic>
                <p:nvPicPr>
                  <p:cNvPr id="149" name="对象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7480" y="2844000"/>
                    <a:ext cx="1781640" cy="13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Lookup Table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basic primitives in DES transform into lookup tab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图片 3" descr=""/>
          <p:cNvPicPr/>
          <p:nvPr/>
        </p:nvPicPr>
        <p:blipFill>
          <a:blip r:embed="rId1"/>
          <a:stretch/>
        </p:blipFill>
        <p:spPr>
          <a:xfrm>
            <a:off x="921960" y="2698200"/>
            <a:ext cx="7300080" cy="372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Divide and Conqu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4907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acker may recognize every lookup table and analyze each basic oper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x 3 tables into 1 big lookup tabl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5" name="对象 3"/>
          <p:cNvGraphicFramePr/>
          <p:nvPr/>
        </p:nvGraphicFramePr>
        <p:xfrm>
          <a:off x="954720" y="2938320"/>
          <a:ext cx="1788120" cy="1824840"/>
        </p:xfrm>
        <a:graphic>
          <a:graphicData uri="http://schemas.openxmlformats.org/presentationml/2006/ole">
            <p:oleObj progId="Visio.Drawing.15" r:id="rId1" spid="">
              <p:embed/>
              <p:pic>
                <p:nvPicPr>
                  <p:cNvPr id="156" name="对象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720" y="2938320"/>
                    <a:ext cx="1788120" cy="182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对象 4"/>
          <p:cNvGraphicFramePr/>
          <p:nvPr/>
        </p:nvGraphicFramePr>
        <p:xfrm>
          <a:off x="3226320" y="2949120"/>
          <a:ext cx="1777680" cy="1814400"/>
        </p:xfrm>
        <a:graphic>
          <a:graphicData uri="http://schemas.openxmlformats.org/presentationml/2006/ole">
            <p:oleObj progId="Visio.Drawing.15" r:id="rId3" spid="">
              <p:embed/>
              <p:pic>
                <p:nvPicPr>
                  <p:cNvPr id="158" name="对象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26320" y="2949120"/>
                    <a:ext cx="1777680" cy="18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对象 5"/>
          <p:cNvGraphicFramePr/>
          <p:nvPr/>
        </p:nvGraphicFramePr>
        <p:xfrm>
          <a:off x="5487480" y="2949120"/>
          <a:ext cx="1781640" cy="1377720"/>
        </p:xfrm>
        <a:graphic>
          <a:graphicData uri="http://schemas.openxmlformats.org/presentationml/2006/ole">
            <p:oleObj progId="Visio.Drawing.15" r:id="rId5" spid="">
              <p:embed/>
              <p:pic>
                <p:nvPicPr>
                  <p:cNvPr id="160" name="对象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7480" y="2949120"/>
                    <a:ext cx="1781640" cy="13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对象 7"/>
          <p:cNvGraphicFramePr/>
          <p:nvPr/>
        </p:nvGraphicFramePr>
        <p:xfrm>
          <a:off x="3239280" y="4929480"/>
          <a:ext cx="1788120" cy="1824840"/>
        </p:xfrm>
        <a:graphic>
          <a:graphicData uri="http://schemas.openxmlformats.org/presentationml/2006/ole">
            <p:oleObj progId="Visio.Drawing.15" r:id="rId7" spid="">
              <p:embed/>
              <p:pic>
                <p:nvPicPr>
                  <p:cNvPr id="162" name="对象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39280" y="4929480"/>
                    <a:ext cx="1788120" cy="182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Divide and Conqu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, the lookup table will become very hu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n bits input &amp; m bits output,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m bits is requir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lution: we need a series of networked lookup tables: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◦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◦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◦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图片 3" descr=""/>
          <p:cNvPicPr/>
          <p:nvPr/>
        </p:nvPicPr>
        <p:blipFill>
          <a:blip r:embed="rId1"/>
          <a:stretch/>
        </p:blipFill>
        <p:spPr>
          <a:xfrm>
            <a:off x="1010160" y="3612600"/>
            <a:ext cx="7123680" cy="205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Partial 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83320" y="1825560"/>
            <a:ext cx="865440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09880" indent="-209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w, et al. adopted partial evaluation to mix crypto keys with algorith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000" indent="-209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ske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m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w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9880" indent="-209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D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000" indent="-209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operation is fixed (e.g. changing plac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3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rresponding lookup tables are fixed -------- not affected by crypto ke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0000" indent="-209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operation is NOT fixed (e.g. replacing using crypto ke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3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rresponding lookup tables are NOT fixed -------- affected by crypto ke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09880" indent="-209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acker can distinguish the unfixed lookup tables by analyzing each 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9880" indent="-209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need to randomize every lookup 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000" indent="-209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ing distinguishing more difficul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Internal Encod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ing 3 consecutive lookup tables in the network: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◦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◦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ntains some key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x)=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⊕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ry lookup table is available to the white-box attac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key information can be extracted direct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Internal Encod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ntermeasure: Add internal encod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randomization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opposite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◦ 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◦ 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◦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◦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◦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◦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◦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◦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◦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◦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w, 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oes not leak any key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80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tacker have to analyze all 3 encoded tables to gain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图片 3" descr=""/>
          <p:cNvPicPr/>
          <p:nvPr/>
        </p:nvPicPr>
        <p:blipFill>
          <a:blip r:embed="rId1"/>
          <a:stretch/>
        </p:blipFill>
        <p:spPr>
          <a:xfrm>
            <a:off x="2033640" y="2323800"/>
            <a:ext cx="507636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yptography is widely used nowadays, attack still exis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ack-Box Attack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te-Box Attack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fbfbf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fbfbf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White-Box Cryptograph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fbfbf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White-Box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te-Box In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fbfbf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ode Lif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acker: No need to know internal details, just need AP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bed the white-box implementation into his Ap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ill encrypt/decrypt data as having the ke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图片 3" descr=""/>
          <p:cNvPicPr/>
          <p:nvPr/>
        </p:nvPicPr>
        <p:blipFill>
          <a:blip r:embed="rId1"/>
          <a:stretch/>
        </p:blipFill>
        <p:spPr>
          <a:xfrm>
            <a:off x="1935000" y="3823200"/>
            <a:ext cx="527400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External Encod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87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me as Internal Encodin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80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not between 2 blocks inside cryptography imple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80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outs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nihilating encoding somewhere el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80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 incorporate into the decryption fun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图片 3" descr=""/>
          <p:cNvPicPr/>
          <p:nvPr/>
        </p:nvPicPr>
        <p:blipFill>
          <a:blip r:embed="rId1"/>
          <a:stretch/>
        </p:blipFill>
        <p:spPr>
          <a:xfrm>
            <a:off x="1112760" y="3354840"/>
            <a:ext cx="6918480" cy="19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Traitor Trac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8560" y="1391040"/>
            <a:ext cx="7886520" cy="52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: Detect who has been sharing code (pir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case: D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ert fingerprints into white-box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also be used in software tamper resi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lware instructions can be detec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modification leads to lookup tables collap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图片 3" descr=""/>
          <p:cNvPicPr/>
          <p:nvPr/>
        </p:nvPicPr>
        <p:blipFill>
          <a:blip r:embed="rId1"/>
          <a:stretch/>
        </p:blipFill>
        <p:spPr>
          <a:xfrm>
            <a:off x="1935000" y="2958840"/>
            <a:ext cx="5274000" cy="214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ing used in real-world application, mainly DRM app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though academic attacks have been publish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attacks on commercial white-box implementation have been se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te-box cryptography still in its early 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quires further research before being widely adop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Black-Box Attack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ies to deduce the key from a list {(plaintext, ciphertext)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图片 3" descr=""/>
          <p:cNvPicPr/>
          <p:nvPr/>
        </p:nvPicPr>
        <p:blipFill>
          <a:blip r:embed="rId1"/>
          <a:stretch/>
        </p:blipFill>
        <p:spPr>
          <a:xfrm>
            <a:off x="1727280" y="2726280"/>
            <a:ext cx="5689080" cy="1405080"/>
          </a:xfrm>
          <a:prstGeom prst="rect">
            <a:avLst/>
          </a:prstGeom>
          <a:ln w="0">
            <a:noFill/>
          </a:ln>
        </p:spPr>
      </p:pic>
      <p:pic>
        <p:nvPicPr>
          <p:cNvPr id="97" name="图片 4" descr=""/>
          <p:cNvPicPr/>
          <p:nvPr/>
        </p:nvPicPr>
        <p:blipFill>
          <a:blip r:embed="rId2"/>
          <a:stretch/>
        </p:blipFill>
        <p:spPr>
          <a:xfrm>
            <a:off x="1727280" y="4371840"/>
            <a:ext cx="5689080" cy="156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Black-Box Attack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de-channel Att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ecuting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ctromagnetic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wer consum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White-Box Attack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acker has full control over software exec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ll access to the implementation of cryptography algorith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ll access to the platform: CPU calls, memory, registers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nary completely vis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manipulate the exec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White-Box Attack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rget for att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lementation of cryptograp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ret k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White-Box Attack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 Whitening Att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ero lookup tables(such as S-box) using hex edi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tting output of penultimate op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iginal AES key easily be deriv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图片 4" descr=""/>
          <p:cNvPicPr/>
          <p:nvPr/>
        </p:nvPicPr>
        <p:blipFill>
          <a:blip r:embed="rId1"/>
          <a:stretch/>
        </p:blipFill>
        <p:spPr>
          <a:xfrm>
            <a:off x="564480" y="3773520"/>
            <a:ext cx="8015040" cy="204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White-Box Attack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tropy Att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ject: Computer Mem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ys: usually chose by random gener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de: contains stru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图片 3" descr=""/>
          <p:cNvPicPr/>
          <p:nvPr/>
        </p:nvPicPr>
        <p:blipFill>
          <a:blip r:embed="rId1"/>
          <a:stretch/>
        </p:blipFill>
        <p:spPr>
          <a:xfrm>
            <a:off x="1935000" y="3793320"/>
            <a:ext cx="5274000" cy="18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 主题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 主题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2882</TotalTime>
  <Application>LibreOffice/7.4.7.2$Linux_X86_64 LibreOffice_project/40$Build-2</Application>
  <AppVersion>15.0000</AppVersion>
  <Words>1062</Words>
  <Paragraphs>20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6T09:11:36Z</dcterms:created>
  <dc:creator/>
  <dc:description/>
  <dc:language>en-US</dc:language>
  <cp:lastModifiedBy/>
  <dcterms:modified xsi:type="dcterms:W3CDTF">2013-10-29T09:28:1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全屏显示(4:3)</vt:lpwstr>
  </property>
  <property fmtid="{D5CDD505-2E9C-101B-9397-08002B2CF9AE}" pid="4" name="Slides">
    <vt:r8>34</vt:r8>
  </property>
</Properties>
</file>